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9D6-8A41-42C0-8BB9-4C994B60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927-4258-466F-BB6D-5F4EE6E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F22-AD4F-4AB8-B4BA-716EA1DD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B85-3A8D-4205-AE9C-AA25BBAA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03E-D61B-4214-94A7-2324C0A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BC8-68E5-4FA2-9134-57DC665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95A-CA7D-4183-B5A3-00B917E0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D1D-2A6D-4457-B7DC-7E8F71F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682-77A5-4BA9-BE56-53C6B23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6AD-C133-4350-ACF4-873633B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C98-BC7E-42AB-97E6-6D6D4F1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3E8-0A8E-47A2-8EBD-9599209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2DA-BE77-4307-BC20-BB215613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_ 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9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 </a:t>
            </a: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A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 palabra correc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B.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Sac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2. Escuchar   3. Tom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4.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52280" y="2611440"/>
            <a:ext cx="3200400" cy="226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981080" y="3429000"/>
            <a:ext cx="68580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1590480" cy="13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6934320" y="2666880"/>
            <a:ext cx="19047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e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7364520" y="144792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676520" y="1752480"/>
            <a:ext cx="1685880" cy="1544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76320" y="3505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828800" y="32306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86200" y="2819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429000" y="33526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62720" y="320040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086600" y="31240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76320" y="4038480"/>
            <a:ext cx="1828800" cy="178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189540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152280" y="59738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8"/>
          <a:stretch/>
        </p:blipFill>
        <p:spPr>
          <a:xfrm>
            <a:off x="4648320" y="42037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9"/>
          <a:stretch/>
        </p:blipFill>
        <p:spPr>
          <a:xfrm>
            <a:off x="7105680" y="3809880"/>
            <a:ext cx="150480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572000" y="5668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 / G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7086600" y="5897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“YO”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R, DA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r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irregular verbs in the Spanish language.  It is a verb you must memor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a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i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feeling, location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jugated in the same way as regular –AR verbs in all forms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5268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053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0400" y="50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35268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290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2578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334120" y="41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410080" y="4586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5029200" y="50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25780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2578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934320" y="36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0102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086600" y="45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70572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0" y="5500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934320" y="5867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257800" y="32907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r        </a:t>
            </a: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r</a:t>
            </a: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preposición “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“to, toward”. This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follows the verb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“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When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llowed by the definite articl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“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words “contract” to form one word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”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l other definite articles they stay as two separat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el parque.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os par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1066680" y="3809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116600" y="380988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265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IR, DAR, 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8:02Z</dcterms:created>
  <dc:creator>Helen Zumaeta</dc:creator>
  <dc:description/>
  <dc:language>en-US</dc:language>
  <cp:lastModifiedBy>Helen Zumaeta</cp:lastModifiedBy>
  <dcterms:modified xsi:type="dcterms:W3CDTF">2014-09-18T19:55:21Z</dcterms:modified>
  <cp:revision>7</cp:revision>
  <dc:subject/>
  <dc:title>Me llamo _______ Clase 6nh/im La fecha es el 24 de enero del 2011</dc:title>
</cp:coreProperties>
</file>